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applause.wav" ContentType="audio/x-wav"/>
  <Override PartName="/ppt/media/image10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png" ContentType="image/png"/>
  <Override PartName="/ppt/media/image16.png" ContentType="image/png"/>
  <Override PartName="/ppt/media/drumroll.wav" ContentType="audio/x-wav"/>
  <Override PartName="/ppt/media/image15.jpeg" ContentType="image/jpeg"/>
  <Override PartName="/ppt/media/image14.png" ContentType="image/png"/>
  <Override PartName="/ppt/media/image13.png" ContentType="image/png"/>
  <Override PartName="/ppt/media/explode.wav" ContentType="audio/x-wav"/>
  <Override PartName="/ppt/media/image6.png" ContentType="image/png"/>
  <Override PartName="/ppt/media/camera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570A-B774-4B57-9E6E-42C05057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ging by the photo a digital narrative would have something to do with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slide has a 20 sec. ti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F8F-50D9-47BD-A52D-9AA1720E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be saying to yourself, “What is a digital narrative?”  Well, let me tell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und effect: digital camera – taking a pi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for than one tool helps make your narrative more “r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BCF-B15A-4AAC-90EB-09616397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chool’s IT staff can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41DB-EED5-42EE-B3CD-27F91385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ing materials ahead of time make your job eas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A59-9A85-47B6-95D4-E61D1802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und effect: explosion – means “get to work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about the process in order to better enable the stud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2E3-CEFA-4900-A960-C7C40DB28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reason for creating a “digital narrative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8C9F-9B08-4AB8-9F00-C61600B1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y summary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EAD-8D4F-40C6-967B-F8CE04F9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9A7-0E01-4803-A31A-4D6AB8EC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84A-118A-41A8-A017-6C4F71FC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8C1-C8AA-4AF4-B4E3-A8DA2B36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16C-978D-4016-A58F-74216D1E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BA5-FABB-42FC-93A9-D08E53A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6973-2E57-4335-B1AB-EF8AE06A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CFBE-E91C-4B09-AE90-285A7DE5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209F-1331-42E2-9ADD-42716A6D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4321-70C2-487F-8639-BADBF48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918-B126-4E4F-9285-AA493947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D4D4-B800-4753-98D4-5CB54EDA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03EE-7782-448A-BD2E-C2F1C52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621-1941-4FAF-82D9-C22F138F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F1D8-2950-497B-8FCE-B5E2D97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CD7-1BB3-4A79-8703-BE0866A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7EE7-B3AF-4FF7-A348-358E128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8518-A250-4A28-8BB8-C010B732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C271-14C9-414D-AF49-700F834F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FF02-6A14-41A5-ACA3-49D7A9B0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73CC-CCC7-45CA-9329-006B291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6899-2264-470C-AC52-CEC7E77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FC4B-3F15-406A-8DDA-1C6FF0BC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E205-60E8-464C-98C4-77D0EA90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B6D-0BEE-4D63-B50E-ADC99F00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EC85-EB39-4719-966D-70B420F2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D774-2601-4569-9BA3-5C51879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5671-7817-4BA0-B4E5-51E540E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B919-53DE-4D41-A17C-C419BBF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1875-BE71-4424-A28F-9022D646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8299-BA8C-4E0E-8511-265D43CF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085B-D74D-42E4-88DA-A9EE7905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9E4A-8AAD-41AB-A7CA-6AD73DCD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B441-4833-4A47-A54C-12FB85AE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B63F-B4DD-4DFB-93BE-A1AB69B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51E-2B99-4222-A9FD-765D870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B0AB-B38C-446B-AC62-8AF5DB37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07AB-5A71-4930-BD75-38288499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17E0-D342-492D-905D-1C24F7BF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2220-5444-4F19-9F43-E66BF69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3B28-68A0-44C0-A3ED-90FBB869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E467-F574-41D2-AF34-BD6D1F0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26FC-E876-4E1A-8DDF-4921CFB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0CDA-F4E6-403E-8F91-1AF6A4C8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298A0-2F8C-4810-9B9B-ABDEAD3C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32D3E-8DF3-4E1D-B896-B1A3A6BC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EF1-1150-4BD6-8C4F-A7B60DC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C3B18-8B02-4FA8-B820-F52F3D30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2C5D-8A8E-44B5-9100-52F6D42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1BEA-DC6D-40E7-990D-E4E3B48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1F6C2-C794-4CE4-AAA2-D9F9231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1991-FB5D-4541-AE03-B2D5D5F2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3E8F-EC70-4EF8-A09C-DE7AD36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2511-AD4D-43AA-B8A6-757FACB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1B73-6513-4BE6-AE8B-B683BF4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B05E-97ED-4EBB-A6AF-B488952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1A907-3DE7-4673-89B1-33A6D401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643-5DE8-4F51-A6A4-989DE6B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C308-DC98-4FF9-98C1-33C9D4E8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5BE4-61AF-4906-8C5D-59696B5D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29BFD-F05A-4686-848E-C0562D2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2F517-03E6-4231-A679-831F380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6F78-41D8-4367-A221-A979280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18C2-B42D-465A-8B92-D05F732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4795A-3B87-41FF-8EE8-121EEB49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1EA7-6B40-4F54-8AC9-6881703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D4B2-1043-47B1-8A15-AB23ABB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0ABA-D29C-44A8-9E7A-841BAB9A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67B-19DC-45FA-8B1B-61F5569B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82B19-1A7F-47E8-8F76-84A1A54E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6C32-C7D9-4D46-AE65-563370A5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EEC15-3C97-49C7-A9A6-8BCEAFCD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AA2-0DB4-434A-8368-FC70F90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F67-40E9-4EF4-8063-C2F71FC0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D87-1CB7-421C-90A3-9CC13819A5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5527-DC17-4752-95BC-785018B95E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048-0406-4517-A339-60C7F7A696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FA36-075B-4715-A42E-FE0B219F5C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CB3-D6F3-4543-A225-96BBB04246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EEA-25EB-4080-8C8B-997AECD6C3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480960" y="487044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284" name="Title 1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ing Effective Digital Narr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C:\Users\Wallis\AppData\Local\Microsoft\Windows\Temporary Internet Files\Content.IE5\035E632S\MCBD09459_0000[1].wmf"/>
          <p:cNvPicPr/>
          <p:nvPr/>
        </p:nvPicPr>
        <p:blipFill>
          <a:blip r:embed="rId2"/>
          <a:stretch/>
        </p:blipFill>
        <p:spPr>
          <a:xfrm>
            <a:off x="4648320" y="2577960"/>
            <a:ext cx="3606840" cy="364176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gital narrative” is simply a term used to identify a digital storytelling exerci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can be a lesson, a picture story, or any kind of story or storyboard created through the use of different kinds of software medi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Use more than one produ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eates a more compelling s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es best components from multiple appl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imited software choices may not provide needed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xamples: Photo Story 3, Movie Maker, and Power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Learn your school’s computer polic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-party soft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rnal med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eripheral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eet the technology facilitator and/or media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arn easier implementation of lesson pl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ble to better use the school’s IT resour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Gather needed 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udio cli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deo cli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Create pre-selected resource s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ximizes classroom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t’s students make their own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eeds the search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iminates teacher’s need to approve each students sel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Learn about the programs you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ow does the program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ere are the files sto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at are the file type requir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ow do you modify the fi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evelop a scalable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ves easily from one computer to an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ve the students use a thumb dr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 is not wasted when students switch comput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explode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igital narratives are more than files combined to tell a st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hanced instru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velop stronger communication sk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gage students in a new and exciting w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et goals that you wish the students to accompli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ppreciation of completing a storytell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eater understanding of the creative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proved reading comprehen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creased logical reasoning sk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Build goals into the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hoto from: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ttp://thejournal.com/Articles/2010/01/27/5-Ways-To-Enhance-Instruction-with-Digital-Narratives.aspx?Page=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everage Multiple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et to Know Your School’s IT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uild a Library of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mplement a Work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reate a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http://download.101com.com/CAM/Images/2010/20100125imovie300.jpg"/>
          <p:cNvPicPr/>
          <p:nvPr/>
        </p:nvPicPr>
        <p:blipFill>
          <a:blip r:embed="rId2"/>
          <a:stretch/>
        </p:blipFill>
        <p:spPr>
          <a:xfrm>
            <a:off x="1523880" y="1143000"/>
            <a:ext cx="5791320" cy="33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thejournal.com/Articles/2010/01/27/5-Ways-To-Enhance-Instruction-with-Digital-Narratives.aspx?Page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thejournal.com/Articles/2010/01/27/5-Ways-To-Enhance-Instruction-with-Digital-Narratives.aspx?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hedigitalnarrative.com/teaching%20method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point clip art fi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3:23:37Z</dcterms:created>
  <dc:creator>itlstudent</dc:creator>
  <dc:description/>
  <dc:language>en-US</dc:language>
  <cp:lastModifiedBy>Wallis</cp:lastModifiedBy>
  <dcterms:modified xsi:type="dcterms:W3CDTF">2010-03-07T03:50:40Z</dcterms:modified>
  <cp:revision>25</cp:revision>
  <dc:subject/>
  <dc:title>Wallis Wesson</dc:title>
</cp:coreProperties>
</file>